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AD92-6B3D-486E-A7D5-E9DEFF786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B3A7-8643-40C7-A5B2-6BD00E55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47FD-2F84-4CEB-A15F-939C9BF61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C2AA-7323-4DEC-8CA1-6847EB528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B07D-70F1-4393-B658-C763F1331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0C25-E697-43DF-8510-9BC9CA5D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F22D-21DF-4F31-B9F5-AE9412B0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3D27-6A40-4EFA-982F-A9547386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32B5-54BA-459A-ADC6-D3F0C3C1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78D9-3202-4777-920B-B4843698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DE79-8474-451C-BEC4-F54C41FC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12C0-8BE9-4954-9FE1-33F70913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5B00-CF04-4514-ADEA-63629079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701E-A1FB-476E-AD0E-F81D4784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F615-199B-4A29-A5DD-E58CEED1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AD9E-B3C5-4B4A-91E4-79D83A073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9DA8-B7B7-481F-A74A-28A2FFDF3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484F-612F-44E3-940F-E9FD464D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9203-E6F4-4214-AE52-22E3235A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85BE-E1A8-4789-B103-25AC956F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FF8C-5073-429B-81BE-224F7BFD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AA5C-7E74-4FFC-A1DB-DA7A32F7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96A1-BDA3-45E1-99B6-F9947E7C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C7AD-50B5-45E0-948B-0EE50843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097D-6A16-4EE8-989A-362B54A22D2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SEV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D503-B504-48CB-AB2A-B8F6CC32D92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Exercises 1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157320" y="1214280"/>
            <a:ext cx="87724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 λεγει τοις Φαρισαιοις∙ Ἐξεστιν ἐν τοις σαββασιν ἀγαθον ποιησαι ἠ κακοποιησαι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o evil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ψυχην σωσαι ἠ μη σωσα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μην ἀμην λεγω, ὁ πιστευων ἐχει ζωην αἰωνι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 ἐντολη αὐτου ἐστιν ζωη αἰωνιο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 τα προβατα την φωνην αὐτου ἀκουει και τα ἰδια προβατα ἀκολουθει ὀπισω αὐτ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 ἀδελφη ἡ πιστη ἐκραζεν τῳ Ἰησου∙ Ἐλεησον, κυριε υἱε Δαυιδ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 ἐκηρυξεν ὁ Ἰησους λεγων∙ Μετανοειτε και πιστευετε ἐν τῳ εὐαγγελιῳ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214200" y="1711440"/>
            <a:ext cx="8001000" cy="36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εγει τῳ ὀχλῳ συν τοις ἀποστολοις αὐτου∙ Εἰ θελεις ὀπισω του κυριου ἀκολουθειν, δει παρρησιαν ἐχε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θρωπος εἰμι ὑπο ἐξουσιαν, και λεγω δουλῳ∙ Ποιησον αὐτο, και ποι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was telling a parable concerning jo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not lead blind animals up into the te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you (pl.) looking at the tomb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sus was speaking in parables but with 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τα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] autho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157320" y="1357200"/>
            <a:ext cx="8772480" cy="37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η δοκειτε λεγειν∙ Ἐσμεν υἱοι του Ἀβρααμ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ἱ Φαρισαιοι καταργουσιν την ἐντολην της ἀγαπη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λλοι συνηγον θεωρειν το μνημει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εγει αὐτῳ∙ Ἀκολουθει τῳ Ἰησου και μαρτυρ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ει προσκυνειν τῳ θεῳ δια την δοξαν αὐτ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λεγεν ὁ ἀγγελος αὐτοις∙ Ἀκολουθειτε ὀπισω της φωνης αὐτου και μαρτυρειτε παρρησιᾳ και χαρᾳ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Exercises 3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214200" y="1711440"/>
            <a:ext cx="8001000" cy="39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ἱ ἀποστολοι ἐκηρυσσον το εὐαγγελιον λεγοντες∙ Μετανοιετ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ο δαιμονιον ἐδησεν αὐτην ἀλλ’ οἱ Φαρισσαιοι λεγουσιν∙ Οὐ δει και οὐκ ἐξεστιν λυσαι αὐτην ἀπο του πονηρου ἐν τῳ σαββατ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ople do not seek dea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man bound Paul, but an angel released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rd, open the eyes of the bl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are about to bear witness concerning the righteousness of Chr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3809880" y="121428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tio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369000" y="164304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John 3.4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Exercises 5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00040" y="2286000"/>
            <a:ext cx="8286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ᾶς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veryone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ποιῶν τὴν ἁματίαν καὶ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lso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ὴν ἀνομίαν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ομία –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lawlessness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ιεῖ, καὶ ἡ ἁμαρτία ἐστὶν ἡ ἀνομία. </a:t>
            </a:r>
            <a:r>
              <a:rPr b="0" lang="el-GR" sz="2700" spc="-1" strike="noStrike" baseline="30000">
                <a:solidFill>
                  <a:srgbClr val="000000"/>
                </a:solidFill>
                <a:latin typeface="Gentium"/>
              </a:rPr>
              <a:t>5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Καὶ οἴδατε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you know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ὅτι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κεῖνος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at one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φανερώθη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as revealed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, ἵνα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o that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ὰς ἁμαρτίας ἄρῃ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he might take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, καὶ ἁμαρτία ἐν αὐτῷ οὐκ ἔστιν. </a:t>
            </a:r>
            <a:r>
              <a:rPr b="0" lang="el-GR" sz="2700" spc="-1" strike="noStrike" baseline="30000">
                <a:solidFill>
                  <a:srgbClr val="000000"/>
                </a:solidFill>
                <a:latin typeface="Gentium"/>
              </a:rPr>
              <a:t>6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πᾶς ὁ ἐν αὐτῷ μένων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ένω –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 remain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ὐχ ἁμαρτάνει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ἁμαρτανω –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Ι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. πᾶς ὁ ἁμαρτάνων οὐχ ἑώρακεν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he has seen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ὐτὸν οὐδὲ ἔγνωκεν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he has known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ὐτόν. </a:t>
            </a:r>
            <a:r>
              <a:rPr b="0" lang="el-GR" sz="2700" spc="-1" strike="noStrike" baseline="30000">
                <a:solidFill>
                  <a:srgbClr val="000000"/>
                </a:solidFill>
                <a:latin typeface="Gentium"/>
              </a:rPr>
              <a:t>7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Τεκνία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=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εκνα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ηδεὶς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body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λανάτω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let him deceive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ὑμᾶς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∙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214200" y="1351080"/>
            <a:ext cx="8929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ποιῶν τὴν δικαιοσύνην δίκαιός ἐστιν, καθὼς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just as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ἐκεῖνος δίκαιός ἐστιν∙ </a:t>
            </a:r>
            <a:r>
              <a:rPr b="0" lang="el-GR" sz="2700" spc="-1" strike="noStrike" baseline="30000">
                <a:solidFill>
                  <a:srgbClr val="000000"/>
                </a:solidFill>
                <a:latin typeface="Gentium"/>
              </a:rPr>
              <a:t>8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ὁ ποιῶν τὴν ἁμαρτιαν ἐκ τοῦ  διαβόλου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άβολος -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evil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ἐστιν, ὅτι ἀπ’ ἀρχῆς ὁ διάβολος ἁμαρτάνει. εἰς τοῦτο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for this reason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φανερώθη ὁ υἱὸς τοῦ θεοῦ, ἵνα λύσῃ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o that he might release/destroy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α ἔργα τοῦ διαβόλου. </a:t>
            </a:r>
            <a:r>
              <a:rPr b="0" lang="el-GR" sz="2700" spc="-1" strike="noStrike" baseline="30000">
                <a:solidFill>
                  <a:srgbClr val="000000"/>
                </a:solidFill>
                <a:latin typeface="Gentium"/>
              </a:rPr>
              <a:t>9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Πᾶς ὁ γεγεννημένος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having been born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κ τοῦ θεοῦ ἁμαρτίαν οὐ ποιεῖ, ὅτι σπέρμα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eed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ὐτοῦ ἐν αὐτῷ μένει, και οὐ δύναται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he is able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ἁμαρτάνειν, ὅτι ἐκ τοῦ θεοῦ γεγέννηται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he has been born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.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 baseline="30000">
                <a:solidFill>
                  <a:srgbClr val="000000"/>
                </a:solidFill>
                <a:latin typeface="Gentium"/>
              </a:rPr>
              <a:t>10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ἐν τούτῳ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n this way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φανερά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revealed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στιν τὰ τέκνα τοῦ θεοῦ καὶ τὰ τέκνα τοῦ διαβόλου∙ πᾶς ὁ μὴ ποιῶν δικαιοσύνην οὐκ ἔστιν ἐκ τοῦ θεοῦ, καὶ ὁ μὴ ἀγαπῶν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loving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ὸν ἀδελφὸν αὐτοῦ.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6:31:09Z</dcterms:created>
  <dc:creator>Sarah</dc:creator>
  <dc:description/>
  <dc:language>en-US</dc:language>
  <cp:lastModifiedBy>Sarah</cp:lastModifiedBy>
  <dcterms:modified xsi:type="dcterms:W3CDTF">2009-07-09T18:15:21Z</dcterms:modified>
  <cp:revision>32</cp:revision>
  <dc:subject/>
  <dc:title>Slide 1</dc:title>
</cp:coreProperties>
</file>